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3700-9789-4E79-BD6F-AD13D6390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54D98-1FC2-4AA0-827D-AB47939F7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342BB-DAB1-497D-8D4D-CDB0361BE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8AFB3-D76A-4634-BA24-0648276A4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676BD-F97A-4C64-9D90-F2DE88994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A0862E-D3E4-4278-8CED-53A9D67D59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B48214-FBD6-41EC-8ED1-ADF1E59819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A3EF2-80A0-42A2-BAF7-84ED9739DE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372797-CEA6-4FEC-8E23-A4197C8348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8E54B-99F8-433A-9F14-4E69C0953A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D6A3BF-9132-4D90-8778-9346F86073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4CB50-1134-4DC8-8B48-B409D16F98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7F232-068B-43CD-A771-0D6978E0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C69FF-233D-4DD3-8FF2-7526E1DA9D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3B010-48E2-42AA-9BC8-E66F46248F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9D57B-6231-4C7C-9A4B-B1786771A8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F167BF-3CC6-4BC7-A6DB-8B79E4FB7B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2DCD12-7F15-4772-A097-376C668E99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669FD-FF3E-4CC5-A2E7-8FAC2156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F35F8-14AD-4AB8-8AEA-9FB64ACA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873F-4D98-45F9-8FE0-CDDCB8367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F8AF6-27C5-4FBA-9CF0-9BF887FB8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3F8A-4C73-4C2B-8B68-E86DB3E6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03003-BDBE-44AC-8023-2EBE4B8A3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CD96-450D-4B08-8323-CFA04D397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A806-A567-4FBA-8147-CACC06D90D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778F-5B24-4A2D-B8D8-25FD2447D0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 Tell The Good News</a:t>
            </a:r>
            <a:br>
              <a:rPr sz="4400"/>
            </a:br>
            <a:r>
              <a:rPr b="0" lang="en-US" sz="3200" spc="-1" strike="noStrike">
                <a:solidFill>
                  <a:srgbClr val="ffffff"/>
                </a:solidFill>
                <a:latin typeface="Tahoma"/>
              </a:rPr>
              <a:t>Summary of Titus</a:t>
            </a:r>
            <a:endParaRPr b="0" lang="en-US" sz="3200" spc="-1" strike="noStrike">
              <a:solidFill>
                <a:srgbClr val="ffffff"/>
              </a:solidFill>
              <a:latin typeface="Tahoma"/>
            </a:endParaRPr>
          </a:p>
        </p:txBody>
      </p:sp>
      <p:sp>
        <p:nvSpPr>
          <p:cNvPr id="91"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12, Lesson 2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u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243 - 24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itus 1</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stle from Paul to Titus, a true son in our common faith</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us was left in Crete for the purpose of appointing eld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cations are similar to those outlined in 1 Timothy 3</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is stressed more to convict false teach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ders were to be prepared to rebuke sharp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5335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itus 2</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stressed character traits that older members must posse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nger members were given guidelin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ndservants were told how they should conduct themselv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then stressed general require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us was instructed to be bold in his condu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5335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itus 3</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us was reminded to instruct the church concerning dealings with all m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rs were to be careful to maintain good work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were instructed to avoid foolish disputes, contentions, and striv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informs Titus about his pla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ul’s activities</a:t>
            </a:r>
            <a:endParaRPr b="0" lang="en-US" sz="4000" spc="-1" strike="noStrike">
              <a:solidFill>
                <a:srgbClr val="ffffff"/>
              </a:solidFill>
              <a:latin typeface="Tahoma"/>
            </a:endParaRPr>
          </a:p>
        </p:txBody>
      </p:sp>
      <p:sp>
        <p:nvSpPr>
          <p:cNvPr id="99" name="PlaceHolder 2"/>
          <p:cNvSpPr>
            <a:spLocks noGrp="1"/>
          </p:cNvSpPr>
          <p:nvPr>
            <p:ph/>
          </p:nvPr>
        </p:nvSpPr>
        <p:spPr>
          <a:xfrm>
            <a:off x="533520" y="1904760"/>
            <a:ext cx="82296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seems that Paul wrote the first epistle to Timothy and the epistle to Titus after being released from prison in Rom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travels are speculative during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92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ersecution Under Nero</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July 19, 64 A.D. a fire destroyed a large portion of Rom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ro blamed Christian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man government instigated persecu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ro was brutal and ruthl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rtyrdom of Peter and Paul</a:t>
            </a:r>
            <a:endParaRPr b="0" lang="en-US" sz="4400" spc="-1" strike="noStrike">
              <a:solidFill>
                <a:srgbClr val="ffffff"/>
              </a:solidFill>
              <a:latin typeface="Tahoma"/>
            </a:endParaRPr>
          </a:p>
        </p:txBody>
      </p:sp>
      <p:sp>
        <p:nvSpPr>
          <p:cNvPr id="103"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were slain in Rome by Ner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er was crucifi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was behead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mans tortured their victims for pleas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saints were killed in R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Ray Cooley</cp:lastModifiedBy>
  <dcterms:modified xsi:type="dcterms:W3CDTF">2007-03-08T02:27:51Z</dcterms:modified>
  <cp:revision>33</cp:revision>
  <dc:subject/>
  <dc:title>Life of Christ, Part 2 In Perea</dc:title>
</cp:coreProperties>
</file>